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8E83-893E-4937-B552-447233B46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7783-5E79-44AA-8DF4-731CF8E32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119-E56B-4E93-8F10-5919DD94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374-7156-4ED7-A33B-612B94DE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7BF-C9B5-4212-9064-2B82EFAE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C9D-D019-41C4-BD17-B34E9F2F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8BF-C29C-4727-BF03-872CB572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94B-E93F-4642-A1A9-1DDEB217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A63-3407-4F83-9C52-3E46A868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BDD-0E39-4A3C-8854-C2946727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98A-D2B8-4094-B995-3F46A849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198-E483-45B7-9E48-82EA9656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CD1-AA19-481A-907C-2F445791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BC6-85FF-4368-91F1-09911D8E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42E2-83A5-44F3-ADD8-C217BE80C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rela Gu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. Mi llamas Mirela. Yo tengo catorce años. Yo soy dulce y amigable. Yo vives Queens. Yo tengo dos herm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.         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amiga!                                                                                Manpree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hace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39:19Z</dcterms:created>
  <dc:creator>FriscoISD</dc:creator>
  <dc:description/>
  <dc:language>en-US</dc:language>
  <cp:lastModifiedBy>NYCDOE</cp:lastModifiedBy>
  <dcterms:modified xsi:type="dcterms:W3CDTF">2012-12-04T14:55:44Z</dcterms:modified>
  <cp:revision>104</cp:revision>
  <dc:subject/>
  <dc:title>Profile</dc:title>
</cp:coreProperties>
</file>